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FD1-9D9C-4AFD-86FF-0ABAC384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48F-142E-4E91-A84C-477A2576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35457-B89D-4D28-87F4-546EB2E2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2594C-AF5B-4C27-BB24-0CE920D4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B0F25-8FC9-405B-B33C-5BFA004B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28B94-3F77-4A1E-8D5B-255625D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41968-E316-407C-A829-B67CD5B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B0BFF-F62A-4932-BFFF-E54031A7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AAE92-6224-4AA4-8736-359E0376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4EDB6-B7AA-41DD-BF91-09EF62C4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ECB94-5399-4A25-AA01-B758A8E8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C860F-1570-4118-9D91-DC7A3856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43A-E469-4B8C-99DB-D03F4F91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33D3B-A54B-4CCA-B305-7D932FC6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5483D-9D55-43FD-A7CA-00A10193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82B10-3E5E-408E-9714-7C3BF272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9213F-EF9E-49CF-9C57-6B0CD88D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E384D-FA5A-4F44-9FAA-E8B5D27F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27E91-D8B0-4903-A54A-1BE3040B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CBF10-FBF6-47A1-8B3E-6808EF15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13180-01C8-4DD3-8A96-AC7B74EF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88748-B9A8-4C23-9F6F-BF45668D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588CB-84ED-43EB-994A-DB9FC736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97F-4DD3-4216-812A-ADF829E8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4F348-5675-40D1-A64F-C4CE69A9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B40AB-01A6-4390-BED0-FF781D3C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3FBAD-4FCC-43C2-A18E-26C8FE36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29E35-DDE7-4EA7-8669-2B50B720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82946-CDD4-490E-BD57-8047A17D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09455-1626-4E28-8A4F-CAB38CC8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E1C33-D464-4980-9ACE-A4191B4A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FCC01-6E22-4EB3-A1F4-127FF6DE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B1270-7ABA-43D2-9F04-0F6594AD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5E70E-165C-4E7D-9C92-D3CB8D7E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8937-838C-4AE2-834B-82CCAC82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52FDF-2D3A-49AF-82D8-87ED0346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4386E-675B-49A1-BAD4-8EE835C2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2EBB2-BBA3-494A-B0E4-110240B7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37627-ED20-45BD-9634-AD4082D9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5BE4D-ED91-4407-87E3-9EFFE260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8B178-88EE-4D2D-BBF2-EB1CEFC1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744B6-D207-458F-A60B-BF041035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3C7AD-6441-4B38-827B-80EFA938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DDC6D-33F9-422A-A240-1A1C42BD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F1777-8073-45F2-A02E-3C115511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96A4-D3B4-4727-BE62-DC9FFB90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CAFD9-2570-484A-8DA2-AC825014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970B8-68E1-461D-BB2A-751D0C35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BB3F6-00EF-44D1-A274-8CE53DD4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1C530-D5DA-488E-87CD-C42B0F91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1FFAD-6CFE-4610-BF6F-2F5B22F7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90AA2-AF76-4AAC-9F47-7D0E605E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83C1B-3956-4AD7-9A2D-AFC82D27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DBAC5-4D70-4BC1-AD0E-EDFC4730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67EFD-B86C-47EC-B57E-794047CE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D725D-1E28-411A-97F4-6334C5CB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17CE-8C89-43A8-8FC8-3520FB51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D81B7-C710-47D3-B120-F0C98EE1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C4958-9562-43FD-8186-B9D95C1C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025E8-ABE6-4CB1-AF7C-46AE150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C410F-20BA-4F5D-A9DB-F435006E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9B066-EFA8-40DB-B69A-6AF1FB66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9BFDC-6FBA-4A30-AE7B-BFEC14F4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19E53-6DCA-47BA-B08E-8DD4A570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6E273-64E9-4D1B-BA43-BC68B0D4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810B0-36B6-4263-9622-31E1AEF5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9496C-06FC-4C53-8DAF-30713CCF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7C5C-EF6B-457E-8E1B-03AA99D9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D8068-23A4-456E-B1FE-B1330B6A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B3274-0A65-4C4D-8A2D-0F7128FF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C9E6C-124E-4EA4-9133-66F34B76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FED58-7BF5-40A1-ADFA-21EBF9EA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EE19F-BF00-4AE5-91C2-E7CFC344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8CC9D-505B-4449-8322-EEE04615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173AA-9D8C-4E3D-AA65-054511C3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65E6A6-7CC9-4E69-85DD-2AC192C9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9F810-7DB4-4C2D-9D41-72D56849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77949-822D-4157-BA30-A7E5A6D9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FF0F-08C1-43A0-9222-ABA186FC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27D4C-F5E5-4994-A425-5318424E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BBCE4-3046-4D10-A8A7-8067B891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70161-E104-4262-8417-2C2463DA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37A36-DB96-44B6-BABE-CBFF8B01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26502-BB3E-437C-945E-42F3395E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EA2F42-0EEC-4EFA-8903-DAB46FED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F658F-02F6-45D7-B031-6C021802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58E4A-5389-40AD-A358-F1932374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6DFED-83B3-4A79-A3FA-B4894170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872A86-8C51-4AD1-9629-D6140D37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95B7-F28F-4D0E-AB6E-DB8F3952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623B7-9F5A-437E-81F3-38A74568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E7700-C164-4409-B4B6-FDFD8EDB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ADB5BC-9053-479A-8DB1-6EC11159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2A198-C410-44A6-8DDA-97B3B71F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7DBCA-DAD3-4338-B030-08DEC9DE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43C8C-A08A-4DA8-AF9B-AA6A5F88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15139-2DE4-4669-889C-28A4A402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E65DBB-36F1-4708-937F-F4BE64E6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52405-0F6C-46D2-94BC-C10A8A77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AD5B6-12F8-4AF6-A6D0-B591281B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C815-C68E-4F03-B3F6-CB1A7DF5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8EFA8C-59A8-49B3-A8D3-206B705F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4345B-2909-4784-BCB6-E2822D8D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B3507-99CC-4A70-A1A9-DDB9DD4F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E78-5A38-46AA-AC85-9210547C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1039-3AF2-4CDA-967D-1DC92BC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4F1A-6436-459B-8B6F-45ADF377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46A0-A3A8-4ECE-AC9E-3E2ECC34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9979-24AB-41AB-9C02-AD5612D5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E3BD-8B20-49CB-8AFA-347E3FA5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4821-6621-478E-983B-4319E593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19B2F-8141-49DD-9366-27E941B8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F5C0-0C47-4352-AF9F-4959C64F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95261-184B-41A2-95A2-C8EB9B08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47A4B-B0EF-457E-8EFF-927EEFCC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A17-445D-4BD6-8DAB-39A894F3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7D4FB-27A3-42BD-952A-11DBA7CD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7CEA3-78F7-4028-93A5-0EEE0971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28EC6-34B8-4D98-A689-E3337B11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548CE-4E44-4951-8FB3-A0B74F9F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9653-6EE4-4AA1-83B8-46D77726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EF857-968F-463F-95A0-81B8CF44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0A82-4E74-492D-B3E1-0B537898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07054-26E5-4875-8B14-70765255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9C86C-F327-470C-89B6-A78300C8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D4F5E-1907-4CF3-968D-B29DFBA6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1D4-9522-43E9-A1A8-1A03A3C2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03A0-D30F-4201-973E-34CE3D67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5BFBC-93B1-428E-8A6E-DB73696D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CD42-77EF-40A2-B465-606533F4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1A438-658A-4D5D-AE9F-32BA3675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68950-3DA6-4FFF-BEC4-FBDD1499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EFE16-1BC9-49FE-9ACE-97F17594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8787E-89E6-4D4B-97E6-5B285598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CA94C-7249-4AEC-9485-EEB0097E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BF989-305C-4357-9030-454B9F02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F98DB-E78E-4809-9D4F-4AFF1FF2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B35-4DEE-4F59-9533-470769EB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39307-0B75-4E32-B3F3-F1C9D1BD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C4756-E156-4E5A-9180-A0906059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27E87-B023-4B2E-ABB7-1042F151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349CD-45FB-4C54-A482-AA8816F9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A2596-F7A3-4E11-ABC7-5DBD80F7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508C9-2092-4E11-BCED-1794C0E1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04AE5-F959-4A1D-ADBA-7108C8E7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57232-C93B-45A0-AC16-C9E0E687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D71B2-38A4-4C8F-9CE6-AEA75FF0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E4AE6-3DF6-422F-8A06-D16B88A1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DB9-387A-423A-8B9A-78EC7854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00D81-B058-4A46-B6D6-470A7FDD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34338-FF0D-4DB8-8ED5-149DF010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8A527-6921-4C80-82A9-875A0655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39F71-D018-43BC-A891-340164DD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22CE6-32E4-4E58-9DA9-97B3B886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0E993-C4F8-4977-A4E0-1CF900BF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097F1-01B4-4766-BB6E-47848012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28B87-3B8A-4324-82C7-0E0AEB11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D071C-C2E3-4962-996E-54AD0179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BFD55-0BDD-40E7-8743-66620D17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5D0-1DCF-487D-B6F5-79DC9CA8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BCE30-71B7-4DA1-88DF-3A04ED67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2B4ED-4CA3-4B3A-96AA-1F349460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73CE0-116D-4AA7-B2D0-4224FF6F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CC0DC-9C16-4C93-AB16-FE61B7DB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19454-CA1C-43A8-B648-40BE4664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A7229-9C50-428D-8AF5-8CE2857A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3E7EC-B7C2-40BB-9E0B-A8CD6D57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4835B-FEB5-4296-A06F-478FE42B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E6A4-7DE8-4B86-8CEF-9204E171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C8800-71D7-4DFB-BCFB-7C566E60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294-E358-4407-8515-F60A4714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422E7-C42E-404B-BB8D-F7A5B055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7D985-D027-43CC-A7B4-C5126322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02885-725F-4FE3-A47B-91E0AE78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704CA-228B-41BF-9EB5-F7DD7B3E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D9388-D0AB-4BA0-99FB-FDEC6ADD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64FDF-97FA-4715-91D2-C8C85A70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699C1-5819-485F-BC3E-6626A3CC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4C7D3-0279-4DA0-A4A3-A9BF98C1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28CC1-32D9-44C6-8BA7-A4321968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C845B-3BF9-40A7-8E7A-617534E7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DE3-DBFC-428F-9DCB-A5931F4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AFBE6-CC31-44A6-9000-38589434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3FFF4-1343-49F3-8CAF-B82A9C8D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4BF4E-FB1D-4720-AB7E-9E85446A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47604-E315-4201-878D-73590F11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AF736-FB91-4E96-8E03-CC1060D3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6DADA-1361-421E-AC90-A76AD160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624E8-4916-4292-ADA3-035E00F8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864A8-4B2B-497F-956A-D6D9FB9B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5CFDC-0BB4-4A0D-877F-7988AF0C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7AC5D-B4D3-487F-92CF-067B2EC3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2BC3-E0BC-4D29-BFF6-AF3B2703AE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23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58A5-E036-45BB-8376-7956069AA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A107-98B0-4AF2-823C-BA10B914D8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27B4-5CA3-4CC4-9ED9-69F1BA27FF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BDCE-05C2-4585-9901-DD82876A31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5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A732-D7A5-4124-B89D-8E0B7F4862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70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4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4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5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5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6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4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1825-2B61-493A-A13D-A4349C55374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2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2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2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2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3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4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4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4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5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5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5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6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7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7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7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8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8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8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9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0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0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0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1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1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2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2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2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4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F88A-97A6-4F18-852C-1A7CD471050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9570-C24D-4315-89A0-E17B21562C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B33C-CEA9-4C56-AC82-38B5FF803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39A1-EEC0-466E-BA8F-68EEDB639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B390-1DC7-4156-911F-432660B209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AAB1-B26C-49C2-9125-D889F766635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2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3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3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4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EC36-7826-4698-804A-DB3C8E61C5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3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3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B10E-23DD-46E8-9BF4-3470546D05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78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1E2F-FB9F-4108-9BCA-4DFC7FE01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bbd71"/>
                </a:solidFill>
                <a:latin typeface="AR HERMANN"/>
              </a:rPr>
              <a:t>Substitution Reactions</a:t>
            </a: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 CHRISTY"/>
              </a:rPr>
              <a:t>By : Vlad Ivankine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Substitution Reaction is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ction in which a hydrogen atom is replaced by another atom or group of ato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action of alkanes or aromatics with halogens to produce organic  halides and hydrogen ha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 DELANEY"/>
              </a:rPr>
              <a:t>Reactants, Products, and the rest…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Reactants: Benzene (C6H6) and Chlorine gas (Cl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Products: Chlorobenzene (C6H5Cl) and Hydrochloric Acid (HC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Catalysts: Heat and Iron (III) Chloride (FeCl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2" name=""/>
          <p:cNvGraphicFramePr/>
          <p:nvPr/>
        </p:nvGraphicFramePr>
        <p:xfrm>
          <a:off x="0" y="2276640"/>
          <a:ext cx="8604360" cy="27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8604360" cy="27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4" name=""/>
          <p:cNvGraphicFramePr/>
          <p:nvPr/>
        </p:nvGraphicFramePr>
        <p:xfrm>
          <a:off x="0" y="2060640"/>
          <a:ext cx="556272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5627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Bonds Broken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4932360" y="3573360"/>
          <a:ext cx="446400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3573360"/>
                    <a:ext cx="446400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onds Broken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0" name=""/>
          <p:cNvGraphicFramePr/>
          <p:nvPr/>
        </p:nvGraphicFramePr>
        <p:xfrm>
          <a:off x="0" y="1916280"/>
          <a:ext cx="6164280" cy="35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616428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2" name=""/>
          <p:cNvGraphicFramePr/>
          <p:nvPr/>
        </p:nvGraphicFramePr>
        <p:xfrm>
          <a:off x="5219640" y="2708280"/>
          <a:ext cx="43959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2708280"/>
                    <a:ext cx="43959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Bonds Formed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5" name=""/>
          <p:cNvGraphicFramePr/>
          <p:nvPr/>
        </p:nvGraphicFramePr>
        <p:xfrm>
          <a:off x="3348000" y="1413000"/>
          <a:ext cx="52196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13000"/>
                    <a:ext cx="5219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7" name=""/>
          <p:cNvGraphicFramePr/>
          <p:nvPr/>
        </p:nvGraphicFramePr>
        <p:xfrm>
          <a:off x="468360" y="2852640"/>
          <a:ext cx="349236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852640"/>
                    <a:ext cx="34923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ffff"/>
                </a:solidFill>
                <a:latin typeface="AR DARLING"/>
              </a:rPr>
              <a:t>THE END</a:t>
            </a:r>
            <a:endParaRPr b="0" lang="en-US" sz="9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2:58:07Z</dcterms:created>
  <dc:creator>Vlad Ivankine</dc:creator>
  <dc:description/>
  <dc:language>en-US</dc:language>
  <cp:lastModifiedBy>Vlad Ivankine</cp:lastModifiedBy>
  <dcterms:modified xsi:type="dcterms:W3CDTF">2010-06-11T03:48:32Z</dcterms:modified>
  <cp:revision>16</cp:revision>
  <dc:subject/>
  <dc:title>Substitution Reactions </dc:title>
</cp:coreProperties>
</file>